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D72D5-6E25-4245-8019-D9CE880A9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F13E-1927-4446-8FF4-A1483BA2C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FBC7-A227-4A24-9050-ED33C46B8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681D-5717-465C-B7D7-CED5D4FB0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6E46-F2B4-471C-8E64-64B683B7C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8FB6-3554-4FA1-ABCF-92D71BE01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5805-A501-439D-AF4A-BF969CBB1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10CF-0347-4179-978D-26B878540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F694-6D9C-4A34-8E39-7A3CAE917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4D17-1F17-4057-B525-C83CDBCC3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0DB7-CF54-49A5-99E0-CCA9B1AD9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EFDB-84BF-4038-968D-1E408A551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694200" y="6536160"/>
            <a:ext cx="7650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089446D0-8DB2-4C40-BF2C-B9DC6640D4B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18320" y="6561720"/>
            <a:ext cx="150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320" y="6591240"/>
            <a:ext cx="244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BenQ-Siemens, EF81 – November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4b6a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3" marL="167652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–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4" marL="2155680" indent="-23940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erry Vodafone Approval plan (SG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ff82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ff82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ff82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8000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124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130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877E3-5C71-42C6-8FC6-C026F67488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08:11:40Z</dcterms:created>
  <dc:creator>CB</dc:creator>
  <dc:description/>
  <dc:language>en-US</dc:language>
  <cp:lastModifiedBy>bartlt</cp:lastModifiedBy>
  <cp:lastPrinted>2003-08-14T19:11:01Z</cp:lastPrinted>
  <dcterms:modified xsi:type="dcterms:W3CDTF">2006-02-21T14:41:06Z</dcterms:modified>
  <cp:revision>572</cp:revision>
  <dc:subject/>
  <dc:title>Aurora / Ulysses - Product Overview and Summ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58433915</vt:r8>
  </property>
  <property fmtid="{D5CDD505-2E9C-101B-9397-08002B2CF9AE}" pid="3" name="_AuthorEmail">
    <vt:lpwstr>Thomas.Bartl@BenQ.com</vt:lpwstr>
  </property>
  <property fmtid="{D5CDD505-2E9C-101B-9397-08002B2CF9AE}" pid="4" name="_AuthorEmailDisplayName">
    <vt:lpwstr>Thomas Bartl</vt:lpwstr>
  </property>
  <property fmtid="{D5CDD505-2E9C-101B-9397-08002B2CF9AE}" pid="5" name="_EmailSubject">
    <vt:lpwstr>Jerry-Vodafone-Approval-Plan status 060221.ppt</vt:lpwstr>
  </property>
  <property fmtid="{D5CDD505-2E9C-101B-9397-08002B2CF9AE}" pid="6" name="_NewReviewCycle">
    <vt:lpwstr/>
  </property>
</Properties>
</file>